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36F2-256F-4508-8B96-4CF017A1F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759B-AE93-4527-A9CC-4B6F88CDE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D02A-050B-4388-A635-1F6DBCF05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4B65-9F4A-4557-A107-6F53BCA83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A442F-7418-49EF-B3F5-8AC858DFD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D6904-B1F6-4E28-8FE4-5E36F1E73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EE5FD-18D5-4BD3-ABF1-0312D1D8E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E7991-94F9-49C3-818D-F890BD73D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B8276-8072-4E2E-97FE-86F1C81B6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F4D27-9C38-4CF0-8527-2099847FC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08C72-2EE9-4C4F-A97F-DF5A007F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BDBA-4418-4DA4-8E06-89A63BDE2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B9705-FC87-4E99-998C-96F8AFEF7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6664C-1A75-4548-A490-7FE88204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5C3E9-B220-4B45-B522-364C53314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92918-4CB5-4822-B483-C343F61AC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E1B1A-782D-4695-A3B5-28D57BFDF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A489-1A64-47E1-B2C9-01F8CAA84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45BA-0895-453F-8359-F355FD7D6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5119-F0E1-4716-9723-13CCABAEA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5318-F66F-4CCD-9DCC-3C8CB1955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9DE1-D4CA-4D7D-9A1D-122A842ED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53D8-5BEB-4E6F-9AE4-AB1B91DC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D754-FF87-4726-AF9B-2BF66E32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xpbanna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037EE-B0D5-4ABF-93DD-EDF8E7B9611B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7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3" name="Picture 8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Picture 9" descr="EXPHORSA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" name="Picture 10" descr="EXPHORSA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3CEB3-1297-459C-9848-9B2C44769F3C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3.png"/><Relationship Id="rId7" Type="http://schemas.openxmlformats.org/officeDocument/2006/relationships/image" Target="../media/image7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7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3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Chapter 14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urope and the New Worl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Encounters, 1500 - 18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French and the British in Indi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ughal Emp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mpact of the Western Pow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ug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g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utch and the Fren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r Robert Cl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ast India 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ttle of Plassey (175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ina &amp; Japa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066680"/>
            <a:ext cx="7769520" cy="458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g Dynasty (1369 – 164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ing Dynas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stern Inr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ss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g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ed Cont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gun Tokugawa Ieyasu (1543 – 16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ing to the W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ortugue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itially visitors welcom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tholic Mission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u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America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ain and Portug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est In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ritish and the Fre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“Sugar Factori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u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w Netherla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ngl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mestown (160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teen Colon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re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Impact of European Expansion: The Conquered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astating effects to local populations in America and Af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ss impact in A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racial society in Latin Ame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c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tholic Mission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sion of native popu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pitals, orphanages and sch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Jesuits in A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sions in Ch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p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Impact of European Expansion: The Conqueror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portunities for wo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conomic eff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ld and Sil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hange of plants and an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umbian E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act on European lifesty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colate, Coffee and T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uropean rival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views of the 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ardus Mercator (1512 – 1594) and his 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sychological imp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2400"/>
                </a:solidFill>
                <a:latin typeface="Times New Roman"/>
              </a:rPr>
              <a:t>Global Patterns of the European States in the Eighteenth Century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16" name="Picture 4" descr="WCB3e_m14"/>
          <p:cNvPicPr/>
          <p:nvPr/>
        </p:nvPicPr>
        <p:blipFill>
          <a:blip r:embed="rId1"/>
          <a:stretch/>
        </p:blipFill>
        <p:spPr>
          <a:xfrm>
            <a:off x="-6667560" y="-4038480"/>
            <a:ext cx="22479120" cy="14934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WCB3e_m14"/>
          <p:cNvPicPr/>
          <p:nvPr/>
        </p:nvPicPr>
        <p:blipFill>
          <a:blip r:embed="rId2"/>
          <a:stretch/>
        </p:blipFill>
        <p:spPr>
          <a:xfrm>
            <a:off x="990720" y="1174680"/>
            <a:ext cx="7864200" cy="52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oward a World Economy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conomic Conditions in the Sixteenth Centu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rowth of Commercial Capital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t stock trading compan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economic instit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ank of Amsterd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sterdam Bourse (Exchan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ri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Mercantilism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volume of trade unchange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conomic activity = war through peaceful me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ortance of bullion and favorable balance of tr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interven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Overseas Trade and Colonies: Movement Toward Globalization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oceanic trade very valu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a European tr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de patterns interlocked Europe, Africa, the East and the Amer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Discussion Question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1640" y="1523880"/>
            <a:ext cx="7769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were the Portuguese so well positioned for overseas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were the Spanish able to defeat the Aztec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social and economic forces drove the Slave Tra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were the British able to achieve such a dominant position in Asi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mpact did European colonization have on the coloniz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economic changes occurred in Europe as a result of Mercantilism and Capitalis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On the Brink of a New World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ves and Me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ravels of John Mandeville (14th centur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ss to the E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o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conomic Mo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igious Z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ntralized Monarch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tolemy’s Geography (147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Web Link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lave Tr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uropean Voyages of Expl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ge of Expl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gital South Asia Libr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ound the Indus in 90 Sli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et East Asian History Source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ast India 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rtual Jamest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New Horizons: The Portuguese and Spanish Empir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nce Henry the Navigator (1394 – 146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evelopment of a Portuguese Maritime Emp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rtholomeu D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sco da G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ches India by rounding Cape of Good Ho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ro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fonso d’Albuquerque (1462 – 151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ercial – Military b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sons for Portuguese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u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man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uropean Discoveries and Possessions in the Fifteenth and Sixteenth Centuries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94" name="Picture 5" descr="WCB3e_m14"/>
          <p:cNvPicPr/>
          <p:nvPr/>
        </p:nvPicPr>
        <p:blipFill>
          <a:blip r:embed="rId1"/>
          <a:stretch/>
        </p:blipFill>
        <p:spPr>
          <a:xfrm>
            <a:off x="1219320" y="1219320"/>
            <a:ext cx="7010280" cy="55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Voyages of the New World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1640" y="1676160"/>
            <a:ext cx="7769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ristopher Columbus (1451 – 150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ched the Bahamas (Oct. 12, 149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 voyages (1493, 1498, and 150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tional Discov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 Ca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dro Cab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erigo Vespuc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n˜ez de Balb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rdinand Magel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rdinand Magellan (1480 – 152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rcumnavigates the Ear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y of Tordesillas (149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The Spanish Empire in the New World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rly Civilizations in Mesoameric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y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zte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panish Conquest of the Aztec Emp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nan Cortés (1485 – 154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ctezuma (Montezum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ztec Empire overthr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The Spanish Empire </a:t>
            </a: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(Cont)</a:t>
            </a:r>
            <a:endParaRPr b="0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ca and the Span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haku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a buildings and r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ncisco Pizarro (c. 1475 – 154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p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as overthrown (153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nistration of the Spanish Emp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omie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ro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hu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frica: The Slave Tra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gar Cane and sla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wth in the Slave Tr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 to 10,000,000 African slaves taken to the Americas between the Sixteenth and Nineteenth Centu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eath rate during trans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soners of W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opulation of African kingd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itical effects of slave tr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iticism of Sla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ety of Friends = Qua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West in Southeast Asi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ug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utch and the Engl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l Kingdoms (Burma, Siam, and Vietna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23:26:42Z</dcterms:created>
  <dc:creator>Darlene L. Wise</dc:creator>
  <dc:description/>
  <dc:language>en-US</dc:language>
  <cp:lastModifiedBy>Balazs, Stephen</cp:lastModifiedBy>
  <dcterms:modified xsi:type="dcterms:W3CDTF">2014-10-26T14:40:46Z</dcterms:modified>
  <cp:revision>200</cp:revision>
  <dc:subject/>
  <dc:title>Chapter 14</dc:title>
</cp:coreProperties>
</file>